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6.wmf" ContentType="image/x-wmf"/>
  <Override PartName="/ppt/media/image45.jpeg" ContentType="image/jpeg"/>
  <Override PartName="/ppt/media/image22.jpeg" ContentType="image/jpeg"/>
  <Override PartName="/ppt/media/image15.wmf" ContentType="image/x-wmf"/>
  <Override PartName="/ppt/media/image41.jpeg" ContentType="image/jpeg"/>
  <Override PartName="/ppt/media/image14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4.png" ContentType="image/png"/>
  <Override PartName="/ppt/media/image12.jpeg" ContentType="image/jpeg"/>
  <Override PartName="/ppt/media/image34.jpeg" ContentType="image/jpeg"/>
  <Override PartName="/ppt/media/image36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3.jpeg" ContentType="image/jpeg"/>
  <Override PartName="/ppt/media/image5.wmf" ContentType="image/x-wmf"/>
  <Override PartName="/ppt/media/image39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13.wmf" ContentType="image/x-wmf"/>
  <Override PartName="/ppt/media/image9.wmf" ContentType="image/x-wmf"/>
  <Override PartName="/ppt/media/image43.jpeg" ContentType="image/jpeg"/>
  <Override PartName="/ppt/media/image46.jpeg" ContentType="image/jpeg"/>
  <Override PartName="/ppt/media/image48.jpeg" ContentType="image/jpeg"/>
  <Override PartName="/ppt/media/image8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4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346-148A-46FA-BF64-52043B3C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5D9-DE24-41D4-833F-30A00FA6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219-4C35-4BCC-91A6-2C2B4652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603-A15D-44BE-A3BA-F662FFA4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464-7C5D-44CA-A384-C4C9B4F6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804C-47B4-4B9E-9373-F74B968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DFAC-55FE-47B6-8010-C3B3E2DC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012B-5F0F-4AE8-B1C8-F6B4578F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E37-6576-4DC1-93BF-894E453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C971-BC77-4287-9657-860F33C4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0CB2-9338-4536-9B11-CFF43C20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326-82C6-4C62-8FC5-08178919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296-37CD-44A8-99B1-8660EDF9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DDE3-7689-46B7-90F7-8110587A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EDEA-FCFA-4F11-87FE-7B55036D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2D97-4428-41E3-8220-9AC38AA4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BFC-C68F-4146-9421-6B8014F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5004-2907-4261-B137-5C677ED4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CE4-01CA-473B-9202-9513F4D4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666-7E89-442E-A207-2CD8CD4C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6B5-7734-45BA-88C5-B217B0CB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B8B-E979-465B-9437-4CFB793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862-C0F9-49EA-A6D4-6D3AE42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5D1-1694-429F-8A88-B6F8396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3AC-4F3E-415D-9C54-B28544562F9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1A80-04FF-4041-BF18-7D14542572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529272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Представление опыта работы </a:t>
            </a: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учителя начальных классов </a:t>
            </a: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МОУ – Трубчевская СОШ №1</a:t>
            </a:r>
            <a:br>
              <a:rPr sz="28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Брянской области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Левченковой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Наталь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aramond"/>
              </a:rPr>
              <a:t>Александровн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(учитель высшей категории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Garamond"/>
              </a:rPr>
              <a:t>стаж работы 22 года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MCj04282610000[1]"/>
          <p:cNvPicPr/>
          <p:nvPr/>
        </p:nvPicPr>
        <p:blipFill>
          <a:blip r:embed="rId1"/>
          <a:stretch/>
        </p:blipFill>
        <p:spPr>
          <a:xfrm>
            <a:off x="395280" y="4869000"/>
            <a:ext cx="1962000" cy="1869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07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b9efee"/>
                </a:solidFill>
                <a:latin typeface="Garamond"/>
              </a:rPr>
              <a:t>Структура</a:t>
            </a:r>
            <a:r>
              <a:rPr b="0" lang="ru-RU" sz="4300" spc="-1" strike="noStrike">
                <a:solidFill>
                  <a:srgbClr val="b9efee"/>
                </a:solidFill>
                <a:latin typeface="Garamond"/>
              </a:rPr>
              <a:t> урока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12640"/>
            <a:ext cx="8686800" cy="72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2.  </a:t>
            </a:r>
            <a:r>
              <a:rPr b="1" lang="ru-RU" sz="29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ru-RU" sz="3700" spc="-1" strike="noStrike" u="sng">
                <a:solidFill>
                  <a:srgbClr val="ffffff"/>
                </a:solidFill>
                <a:uFillTx/>
                <a:latin typeface="Garamond"/>
              </a:rPr>
              <a:t>Актуализация знаний.</a:t>
            </a:r>
            <a:r>
              <a:rPr b="1" lang="ru-RU" sz="37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 повторение изученного материала, необходимого для «открытия нового знания»,  и  выявление затруднений в индивидуальной деятельности каждого учащегося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ffff"/>
                </a:solidFill>
                <a:uFillTx/>
                <a:latin typeface="Garamond"/>
              </a:rPr>
              <a:t>Приёмы:</a:t>
            </a: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 биография слова, экзамен, «ты  -  мне, я – тебе», тесты, работа по карточкам, графический диктант, игры на развитие памяти, внимания, мышления, задания героев, языковые разминки, «образовалась проблема», «шоковая терапия»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b9efee"/>
                </a:solidFill>
                <a:latin typeface="Garamond"/>
              </a:rPr>
              <a:t>Структура</a:t>
            </a:r>
            <a:r>
              <a:rPr b="0" lang="ru-RU" sz="4300" spc="-1" strike="noStrike">
                <a:solidFill>
                  <a:srgbClr val="b9efee"/>
                </a:solidFill>
                <a:latin typeface="Garamond"/>
              </a:rPr>
              <a:t> урока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Garamond"/>
              </a:rPr>
              <a:t>3.  </a:t>
            </a:r>
            <a:r>
              <a:rPr b="1" lang="ru-RU" sz="3700" spc="-1" strike="noStrike" u="sng">
                <a:solidFill>
                  <a:srgbClr val="ffffff"/>
                </a:solidFill>
                <a:uFillTx/>
                <a:latin typeface="Garamond"/>
              </a:rPr>
              <a:t>Постановка учебной задачи.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 обсуждение затруднений («Почему возникли затруднения?», «Чего мы ещё не знаем?»); проговаривание цели урока в виде вопроса, на который предстоит ответить, или в виде темы урока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Методы:</a:t>
            </a: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побуждающий от проблемы диалог, подводящий к теме диалог, подводящий без проблемы диалог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Приёмы:</a:t>
            </a: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«На ошибках учатся», «А есть ли у вас план?»,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b9efee"/>
                </a:solidFill>
                <a:latin typeface="Garamond"/>
              </a:rPr>
              <a:t>Структура</a:t>
            </a:r>
            <a:r>
              <a:rPr b="0" lang="ru-RU" sz="4300" spc="-1" strike="noStrike">
                <a:solidFill>
                  <a:srgbClr val="b9efee"/>
                </a:solidFill>
                <a:latin typeface="Garamond"/>
              </a:rPr>
              <a:t> урока</a:t>
            </a:r>
            <a:endParaRPr b="1" lang="en-US" sz="43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4.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« Открытие» детьми нового зна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 по возможности включение детей в ситуацию выбора метода решения проблемы, решение детьми проблемы с помощью выбранного метода, фиксирование  нового алгоритма (понятия) в языке и знаково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ёмы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блюдение, исследование, практическая работа, «размышляем вместе», «ищи информацию»,  «учебник – наш друг», «компьютер - наш друг», составление опорных схем, таблиц, алгоритм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b9efee"/>
                </a:solidFill>
                <a:latin typeface="Garamond"/>
              </a:rPr>
              <a:t>Структура урока</a:t>
            </a:r>
            <a:r>
              <a:rPr b="0" lang="ru-RU" sz="43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267920"/>
            <a:ext cx="8686800" cy="741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5.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 Первичное закрепле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говаривание нового знания, запись в виде опорного сигн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иёмы: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ментированное письмо, задай вопрос по теме урока, рассказ по опорной схем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6.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Самостоятельная работа с самопроверкой по эталону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каждый для себя должен сделать вывод о том, что он уже уме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Методы:</a:t>
            </a: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контроль, самооце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9efee"/>
                </a:solidFill>
                <a:latin typeface="Garamond"/>
              </a:rPr>
              <a:t>Структура урока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72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7.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Включение нового знания в систему знаний и повторени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ключение нового знания в систему знаний, решение задач на повторение и закрепление изученного ранее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90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полнение творческих заданий, используя индивидуальный и дифференцированный подход: работа по карточкам, написание сочинений, создание проект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9efee"/>
                </a:solidFill>
                <a:latin typeface="Garamond"/>
              </a:rPr>
              <a:t>Структура урок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8.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 Рефлексия деятельности (итог уро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ознание учащимися своей учебной деятельности, самооценка результатов деятельности своей и всего класс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иёмы: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На этом уроке …»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ую задачу стави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Удалось ли её решить? Каким способом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кие результаты получил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ещё нужно сдела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Где можно применить новое знани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на уроке у вас хорошо получалос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д чем нужно ещё поработать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Оцени свою работу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9.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Garamond"/>
              </a:rPr>
              <a:t> Домашнее зада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ифференцированное домашнее зада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зультаты деятельности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457200" y="1600200"/>
          <a:ext cx="403848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40384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"/>
          <p:cNvGraphicFramePr/>
          <p:nvPr/>
        </p:nvGraphicFramePr>
        <p:xfrm>
          <a:off x="0" y="3933720"/>
          <a:ext cx="453564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933720"/>
                    <a:ext cx="453564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"/>
          <p:cNvGraphicFramePr/>
          <p:nvPr/>
        </p:nvGraphicFramePr>
        <p:xfrm>
          <a:off x="4648320" y="1600200"/>
          <a:ext cx="4038480" cy="217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1600200"/>
                    <a:ext cx="403848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4648320" y="3924360"/>
          <a:ext cx="4038480" cy="21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924360"/>
                    <a:ext cx="40384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Line 7"/>
          <p:cNvSpPr/>
          <p:nvPr/>
        </p:nvSpPr>
        <p:spPr>
          <a:xfrm>
            <a:off x="395280" y="3645000"/>
            <a:ext cx="8569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4716360" y="1268280"/>
            <a:ext cx="0" cy="518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правления внеклассной работ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3" name="Picture 3" descr="Рисование декоративных рыбок"/>
          <p:cNvPicPr/>
          <p:nvPr/>
        </p:nvPicPr>
        <p:blipFill>
          <a:blip r:embed="rId1"/>
          <a:stretch/>
        </p:blipFill>
        <p:spPr>
          <a:xfrm>
            <a:off x="5003640" y="107172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Наш друг -компьютер"/>
          <p:cNvPicPr/>
          <p:nvPr/>
        </p:nvPicPr>
        <p:blipFill>
          <a:blip r:embed="rId2"/>
          <a:stretch/>
        </p:blipFill>
        <p:spPr>
          <a:xfrm>
            <a:off x="468360" y="3141720"/>
            <a:ext cx="4174920" cy="3130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ff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Garamond"/>
              </a:rPr>
              <a:t>проведение внеклассных занятий по предметам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урок родного языка"/>
          <p:cNvPicPr/>
          <p:nvPr/>
        </p:nvPicPr>
        <p:blipFill>
          <a:blip r:embed="rId3"/>
          <a:stretch/>
        </p:blipFill>
        <p:spPr>
          <a:xfrm>
            <a:off x="5003640" y="393372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правления внеклассной работ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99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ведени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икторин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метных недель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курс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4" descr="Наши работы на выставке"/>
          <p:cNvPicPr/>
          <p:nvPr/>
        </p:nvPicPr>
        <p:blipFill>
          <a:blip r:embed="rId1"/>
          <a:stretch/>
        </p:blipFill>
        <p:spPr>
          <a:xfrm>
            <a:off x="4859280" y="3924360"/>
            <a:ext cx="3673440" cy="275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Что получают из песка"/>
          <p:cNvPicPr/>
          <p:nvPr/>
        </p:nvPicPr>
        <p:blipFill>
          <a:blip r:embed="rId2"/>
          <a:stretch/>
        </p:blipFill>
        <p:spPr>
          <a:xfrm>
            <a:off x="468360" y="379404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Достопримечательности родного края"/>
          <p:cNvPicPr/>
          <p:nvPr/>
        </p:nvPicPr>
        <p:blipFill>
          <a:blip r:embed="rId3"/>
          <a:stretch/>
        </p:blipFill>
        <p:spPr>
          <a:xfrm>
            <a:off x="5148360" y="130968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правления внеклассной работ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ff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500" spc="-1" strike="noStrike">
                <a:solidFill>
                  <a:srgbClr val="ffffff"/>
                </a:solidFill>
                <a:latin typeface="Garamond"/>
              </a:rPr>
              <a:t>исследовательские и проектные работы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4" descr="Изучаем подземные богатства"/>
          <p:cNvPicPr/>
          <p:nvPr/>
        </p:nvPicPr>
        <p:blipFill>
          <a:blip r:embed="rId1"/>
          <a:stretch/>
        </p:blipFill>
        <p:spPr>
          <a:xfrm>
            <a:off x="755640" y="357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Природные зоны России"/>
          <p:cNvPicPr/>
          <p:nvPr/>
        </p:nvPicPr>
        <p:blipFill>
          <a:blip r:embed="rId2"/>
          <a:stretch/>
        </p:blipFill>
        <p:spPr>
          <a:xfrm>
            <a:off x="4932360" y="38606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Свойства почвы"/>
          <p:cNvPicPr/>
          <p:nvPr/>
        </p:nvPicPr>
        <p:blipFill>
          <a:blip r:embed="rId3"/>
          <a:stretch/>
        </p:blipFill>
        <p:spPr>
          <a:xfrm>
            <a:off x="5364000" y="119700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9efee"/>
                </a:solidFill>
                <a:latin typeface="Garamond"/>
              </a:rPr>
              <a:t>Тем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« Технология деятельностного метода обучени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 начальной школе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"Скажи мне, и я забуду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кажи мне, - я смогу запомнить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зволь мне это сделать самому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это станет моим навсегда"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Древняя мудрость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4" descr="MCj04282610000[1]"/>
          <p:cNvPicPr/>
          <p:nvPr/>
        </p:nvPicPr>
        <p:blipFill>
          <a:blip r:embed="rId1"/>
          <a:stretch/>
        </p:blipFill>
        <p:spPr>
          <a:xfrm>
            <a:off x="324000" y="4581360"/>
            <a:ext cx="1962000" cy="1870200"/>
          </a:xfrm>
          <a:prstGeom prst="rect">
            <a:avLst/>
          </a:prstGeom>
          <a:ln w="0">
            <a:noFill/>
          </a:ln>
        </p:spPr>
      </p:pic>
      <p:sp>
        <p:nvSpPr>
          <p:cNvPr id="121" name="Line 5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108000" y="6597720"/>
            <a:ext cx="89280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правления внеклассной работ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797000"/>
            <a:ext cx="784872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4" marL="1584000" indent="-175680">
              <a:lnSpc>
                <a:spcPct val="80000"/>
              </a:lnSpc>
              <a:spcBef>
                <a:spcPts val="799"/>
              </a:spcBef>
              <a:buClr>
                <a:srgbClr val="ccff66"/>
              </a:buClr>
              <a:buFont typeface="Wingdings" charset="2"/>
              <a:buChar char="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и участие в творческих конкурсах,                                                                                                                  праздни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4" descr="Работа Дианы С"/>
          <p:cNvPicPr/>
          <p:nvPr/>
        </p:nvPicPr>
        <p:blipFill>
          <a:blip r:embed="rId1"/>
          <a:stretch/>
        </p:blipFill>
        <p:spPr>
          <a:xfrm>
            <a:off x="611280" y="1341360"/>
            <a:ext cx="2651040" cy="3527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На конкурсе"/>
          <p:cNvPicPr/>
          <p:nvPr/>
        </p:nvPicPr>
        <p:blipFill>
          <a:blip r:embed="rId2"/>
          <a:stretch/>
        </p:blipFill>
        <p:spPr>
          <a:xfrm>
            <a:off x="4067280" y="1600200"/>
            <a:ext cx="424980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правления внеклассной работ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2" name="Picture 3" descr="Обхитрю!"/>
          <p:cNvPicPr/>
          <p:nvPr/>
        </p:nvPicPr>
        <p:blipFill>
          <a:blip r:embed="rId1"/>
          <a:stretch/>
        </p:blipFill>
        <p:spPr>
          <a:xfrm>
            <a:off x="611280" y="414972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На Партизанской поляне"/>
          <p:cNvPicPr/>
          <p:nvPr/>
        </p:nvPicPr>
        <p:blipFill>
          <a:blip r:embed="rId2"/>
          <a:stretch/>
        </p:blipFill>
        <p:spPr>
          <a:xfrm>
            <a:off x="755640" y="1125360"/>
            <a:ext cx="3311640" cy="2484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3573360"/>
            <a:ext cx="7273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ff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оходы, экскурсии,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огулки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5" name="Picture 6" descr="У входа"/>
          <p:cNvPicPr/>
          <p:nvPr/>
        </p:nvPicPr>
        <p:blipFill>
          <a:blip r:embed="rId3"/>
          <a:stretch/>
        </p:blipFill>
        <p:spPr>
          <a:xfrm>
            <a:off x="5003640" y="1125360"/>
            <a:ext cx="3313440" cy="2484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4"/>
          <a:stretch/>
        </p:blipFill>
        <p:spPr>
          <a:xfrm>
            <a:off x="4859280" y="4076640"/>
            <a:ext cx="3888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правления внеклассной работ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ff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900" spc="-1" strike="noStrike">
                <a:solidFill>
                  <a:srgbClr val="ffffff"/>
                </a:solidFill>
                <a:latin typeface="Garamond"/>
              </a:rPr>
              <a:t>подготовка учащихся к олимпиадам.</a:t>
            </a: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9" name="Picture 8" descr="Заняты школьники делом_2104"/>
          <p:cNvPicPr/>
          <p:nvPr/>
        </p:nvPicPr>
        <p:blipFill>
          <a:blip r:embed="rId1"/>
          <a:stretch/>
        </p:blipFill>
        <p:spPr>
          <a:xfrm>
            <a:off x="3995640" y="1844640"/>
            <a:ext cx="48261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Наши маленькие побед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лагодарности за участие в школьных, районных, областных и международных конкурс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8" descr="IMG_2205"/>
          <p:cNvPicPr/>
          <p:nvPr/>
        </p:nvPicPr>
        <p:blipFill>
          <a:blip r:embed="rId1"/>
          <a:stretch/>
        </p:blipFill>
        <p:spPr>
          <a:xfrm>
            <a:off x="539640" y="4005360"/>
            <a:ext cx="3533760" cy="2651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MG_2207"/>
          <p:cNvPicPr/>
          <p:nvPr/>
        </p:nvPicPr>
        <p:blipFill>
          <a:blip r:embed="rId2"/>
          <a:stretch/>
        </p:blipFill>
        <p:spPr>
          <a:xfrm>
            <a:off x="4500720" y="119700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IMG_2206"/>
          <p:cNvPicPr/>
          <p:nvPr/>
        </p:nvPicPr>
        <p:blipFill>
          <a:blip r:embed="rId3"/>
          <a:stretch/>
        </p:blipFill>
        <p:spPr>
          <a:xfrm>
            <a:off x="5724360" y="2565360"/>
            <a:ext cx="2953080" cy="2309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IMG_2208"/>
          <p:cNvPicPr/>
          <p:nvPr/>
        </p:nvPicPr>
        <p:blipFill>
          <a:blip r:embed="rId4"/>
          <a:stretch/>
        </p:blipFill>
        <p:spPr>
          <a:xfrm>
            <a:off x="4572000" y="4365720"/>
            <a:ext cx="32400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Наши маленькие победы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1776240" cy="2514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1774800" cy="251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1908000" y="1268280"/>
            <a:ext cx="1805040" cy="2521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4"/>
          <a:stretch/>
        </p:blipFill>
        <p:spPr>
          <a:xfrm>
            <a:off x="5148360" y="1268280"/>
            <a:ext cx="1763640" cy="2521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5"/>
          <a:stretch/>
        </p:blipFill>
        <p:spPr>
          <a:xfrm>
            <a:off x="6877080" y="1268280"/>
            <a:ext cx="1920960" cy="252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6"/>
          <a:stretch/>
        </p:blipFill>
        <p:spPr>
          <a:xfrm>
            <a:off x="1736640" y="3933720"/>
            <a:ext cx="2043360" cy="266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"/>
          <p:cNvPicPr/>
          <p:nvPr/>
        </p:nvPicPr>
        <p:blipFill>
          <a:blip r:embed="rId7"/>
          <a:stretch/>
        </p:blipFill>
        <p:spPr>
          <a:xfrm>
            <a:off x="4211640" y="4005360"/>
            <a:ext cx="3600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691920"/>
            <a:ext cx="8291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рименение деятельностного метод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вышает эмоциональный отклик уч-ся на процесс позн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зывает интерес к овладению новыми знаниями, умениями и их практическому применению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ет умения самостоятельно мыслить, ориентироваться в новой ситуации, находить подходы к решению проблем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вает не только учебную деятельность, но и повышает качество образова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ирует и совершенствует интеллектуальные качества лич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556000" y="2924280"/>
            <a:ext cx="221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ывод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Все это способствует развитию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устной реч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умения формулировать и высказывать свою точку зрения,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активизирует мышление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aramond"/>
              </a:rPr>
              <a:t>творческих способностей и талантов детей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зультаты деятельности учител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3322800" cy="4608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4239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Результаты деятельности учител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235320" cy="4496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"/>
          <p:cNvPicPr/>
          <p:nvPr/>
        </p:nvPicPr>
        <p:blipFill>
          <a:blip r:embed="rId2"/>
          <a:stretch/>
        </p:blipFill>
        <p:spPr>
          <a:xfrm>
            <a:off x="2916360" y="1700280"/>
            <a:ext cx="3154320" cy="4319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"/>
          <p:cNvPicPr/>
          <p:nvPr/>
        </p:nvPicPr>
        <p:blipFill>
          <a:blip r:embed="rId3"/>
          <a:stretch/>
        </p:blipFill>
        <p:spPr>
          <a:xfrm>
            <a:off x="5867280" y="1989000"/>
            <a:ext cx="31672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и раскрытие личности  ребёнка через технологию деятельностного метода обуч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правления педагогической деятельност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ализация технологии деятельностного метода для развития общеучебных умений и повышения качества образов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воспитание творческой личности, способной к анализу и самовыражени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ые положения технологии деятельностного метода обуче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сс обучения есть всегда обучение деяте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сс обучения должен быть творчески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учение деятельности предполагает совместную учебно – познавательную деятельность группы учащихся под руководством учител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14"/>
          <p:cNvSpPr/>
          <p:nvPr/>
        </p:nvSpPr>
        <p:spPr>
          <a:xfrm>
            <a:off x="1219320" y="1676520"/>
            <a:ext cx="6705360" cy="3733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ffbf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0" y="0"/>
            <a:ext cx="9677160" cy="7086240"/>
            <a:chOff x="0" y="0"/>
            <a:chExt cx="9677160" cy="7086240"/>
          </a:xfrm>
        </p:grpSpPr>
        <p:pic>
          <p:nvPicPr>
            <p:cNvPr id="129" name="Picture 4" descr="pe01758_"/>
            <p:cNvPicPr/>
            <p:nvPr/>
          </p:nvPicPr>
          <p:blipFill>
            <a:blip r:embed="rId2"/>
            <a:stretch/>
          </p:blipFill>
          <p:spPr>
            <a:xfrm>
              <a:off x="7337520" y="977400"/>
              <a:ext cx="233964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5" descr="pe02947_"/>
            <p:cNvPicPr/>
            <p:nvPr/>
          </p:nvPicPr>
          <p:blipFill>
            <a:blip r:embed="rId3"/>
            <a:stretch/>
          </p:blipFill>
          <p:spPr>
            <a:xfrm>
              <a:off x="637920" y="4479480"/>
              <a:ext cx="1858680" cy="150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bd07226_"/>
            <p:cNvPicPr/>
            <p:nvPr/>
          </p:nvPicPr>
          <p:blipFill>
            <a:blip r:embed="rId4"/>
            <a:stretch/>
          </p:blipFill>
          <p:spPr>
            <a:xfrm>
              <a:off x="0" y="2035800"/>
              <a:ext cx="14266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7" descr="pe01821_"/>
            <p:cNvPicPr/>
            <p:nvPr/>
          </p:nvPicPr>
          <p:blipFill>
            <a:blip r:embed="rId5"/>
            <a:stretch/>
          </p:blipFill>
          <p:spPr>
            <a:xfrm>
              <a:off x="6912000" y="4316760"/>
              <a:ext cx="1969920" cy="17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8" descr="pe02654_"/>
            <p:cNvPicPr/>
            <p:nvPr/>
          </p:nvPicPr>
          <p:blipFill>
            <a:blip r:embed="rId6"/>
            <a:stretch/>
          </p:blipFill>
          <p:spPr>
            <a:xfrm>
              <a:off x="3721680" y="0"/>
              <a:ext cx="2446200" cy="17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9" descr="bd07214_"/>
            <p:cNvPicPr/>
            <p:nvPr/>
          </p:nvPicPr>
          <p:blipFill>
            <a:blip r:embed="rId7"/>
            <a:stretch/>
          </p:blipFill>
          <p:spPr>
            <a:xfrm>
              <a:off x="1275840" y="162720"/>
              <a:ext cx="1584000" cy="13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0" descr="pe02282_"/>
            <p:cNvPicPr/>
            <p:nvPr/>
          </p:nvPicPr>
          <p:blipFill>
            <a:blip r:embed="rId8"/>
            <a:stretch/>
          </p:blipFill>
          <p:spPr>
            <a:xfrm>
              <a:off x="3509280" y="5131440"/>
              <a:ext cx="2443680" cy="195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98760" y="1940040"/>
            <a:ext cx="586584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Garamond"/>
              </a:rPr>
              <a:t>Характерной чертой технологии деятельностного метода обучения</a:t>
            </a:r>
            <a:r>
              <a:rPr b="1" i="1" lang="ru-RU" sz="2500" spc="-1" strike="noStrike">
                <a:solidFill>
                  <a:srgbClr val="0000cc"/>
                </a:solidFill>
                <a:latin typeface="Garamond"/>
              </a:rPr>
              <a:t> является   способность  ученика проектировать   предстоящую деятельность,  быть ее субъектом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значит обучать деятельност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ать учение мотивированным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ить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бёнка самостоятельно ставить перед собой цель и находить пути, средства её достижения (т.е. оптимально организовывать свою деятельность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могать ребёнку сформировать у себя умения контроля и самоконтроля, оценки и самооценк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рганизационные основы учебной деятельности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урок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основная фор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бразовательн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оцес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внеклассная работ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способ развития индивидуальных особенностей и талантов учащихся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10"/>
          <p:cNvSpPr/>
          <p:nvPr/>
        </p:nvSpPr>
        <p:spPr>
          <a:xfrm flipH="1">
            <a:off x="2843280" y="1557360"/>
            <a:ext cx="151272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4859280" y="1557360"/>
            <a:ext cx="158436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Формы урок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54813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 «открытия»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овых знани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– тренинг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– путешестви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– концер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– рефлекс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– экскурс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–практическая рабо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щита творческого проек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рок контрол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4" descr="Расскажу об известняке"/>
          <p:cNvPicPr/>
          <p:nvPr/>
        </p:nvPicPr>
        <p:blipFill>
          <a:blip r:embed="rId1"/>
          <a:stretch/>
        </p:blipFill>
        <p:spPr>
          <a:xfrm>
            <a:off x="5219640" y="2492280"/>
            <a:ext cx="34671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b9efee"/>
                </a:solidFill>
                <a:latin typeface="Garamond"/>
              </a:rPr>
              <a:t>Структура урока</a:t>
            </a:r>
            <a:r>
              <a:rPr b="0" lang="ru-RU" sz="39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86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60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ffffff"/>
                </a:solidFill>
                <a:uFillTx/>
                <a:latin typeface="Garamond"/>
              </a:rPr>
              <a:t>1. </a:t>
            </a:r>
            <a:r>
              <a:rPr b="1" lang="ru-RU" sz="3700" spc="-1" strike="noStrike" u="sng">
                <a:solidFill>
                  <a:srgbClr val="ffffff"/>
                </a:solidFill>
                <a:uFillTx/>
                <a:latin typeface="Garamond"/>
              </a:rPr>
              <a:t>Самоопределение к деятельности</a:t>
            </a:r>
            <a:r>
              <a:rPr b="0" lang="ru-RU" sz="33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3700" spc="-1" strike="noStrike" u="sng">
                <a:solidFill>
                  <a:srgbClr val="ffffff"/>
                </a:solidFill>
                <a:uFillTx/>
                <a:latin typeface="Garamond"/>
              </a:rPr>
              <a:t>(организационный момент).</a:t>
            </a:r>
            <a:endParaRPr b="0" lang="en-US" sz="37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Цель:</a:t>
            </a: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 включение детей в деятельность на личностно – значимом уровне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560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ffff"/>
                </a:solidFill>
                <a:uFillTx/>
                <a:latin typeface="Garamond"/>
              </a:rPr>
              <a:t>Приёмы:</a:t>
            </a: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Garamond"/>
              </a:rPr>
              <a:t>минутки вхождения, этический заряд, игровые ситуации, «что возьмём с собой в дорогу», продолжи фразу, проверим настроение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7:07:27Z</dcterms:created>
  <dc:creator>SPA</dc:creator>
  <dc:description/>
  <dc:language>en-US</dc:language>
  <cp:lastModifiedBy>User</cp:lastModifiedBy>
  <dcterms:modified xsi:type="dcterms:W3CDTF">2012-02-13T11:31:04Z</dcterms:modified>
  <cp:revision>38</cp:revision>
  <dc:subject/>
  <dc:title>Представление опыта работы учителя начальных классов МОУ – Трубчевская СОШ №1 Брянской области</dc:title>
</cp:coreProperties>
</file>