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DE7-139D-496B-8A0C-01D3762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1E2-A550-4B5C-9784-472B7B93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567-AFA7-4B5B-B6FE-0D4003E1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22C-27D8-41EB-ABFB-E51F476D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E03-00DA-4345-972C-FB036067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1E8-4F3C-476C-A0DD-19E71673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721-4C1D-45F3-944E-27A01D37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91A-8D0B-4756-85FF-DCE9A55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42E-EEC1-4CCF-915A-2AE63E1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904-32C4-4B25-91F0-6F5DB8F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E9B-EBBB-4140-9F22-05F1FFF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9A4-37EB-4DE5-994E-46837989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BB3-DEC7-40D9-A758-BB804BFCD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резентация к уроку литературного чтения</a:t>
            </a:r>
            <a:br>
              <a:rPr sz="6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ласс         ОС         «Школа 2100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Н. Бунеев           Е.В. Бун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640" y="3885840"/>
            <a:ext cx="87850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8989"/>
                </a:solidFill>
                <a:latin typeface="Calibri"/>
              </a:rPr>
              <a:t>Тема: Чем силён человек? </a:t>
            </a: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(Киргизская сказ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«Дыйканбай и дэв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0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звенел уже звонок,</a:t>
            </a:r>
            <a:br>
              <a:rPr sz="4400"/>
            </a:b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Начинается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66920" y="2133720"/>
            <a:ext cx="47624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67694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ОЧНЫЕ БОГАТЫ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7480" y="58050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В.М. Васнецов  «Три богатыр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39720" y="765000"/>
            <a:ext cx="7836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526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ЫЙКАНБАЙ И ДЭ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КИРГИЗСКАЯ СКАЗ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9000" y="274680"/>
            <a:ext cx="71294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ЮЧЕВЫЕ СЛОВА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ВАЖНЫЙ ОХОТНИК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УГАЛСЯ ДО СМЕРТ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НУЛИСЬ ЦЕЛЫЕ И НЕВРЕДИМ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4000"/>
            </a:b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ЧЕМ СИЛЁН ЧЕЛОВЕК?</a:t>
            </a:r>
            <a:br>
              <a:rPr sz="4800"/>
            </a:b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РГИЗСКАЯ 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ДЫЙКАНБАЙ И ДЭ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9080" y="476280"/>
            <a:ext cx="8018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ОХИ ДЕЛА – ГДЕ СИЛА БЕЗ УМ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5320" y="4581360"/>
            <a:ext cx="7772400" cy="1359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74640" y="55864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МЕКАЛКА И УМ К ПОБЕДЕ ВЕДУ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574640" y="1952640"/>
            <a:ext cx="1363680" cy="276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435640" y="1333440"/>
            <a:ext cx="2739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ЧЕМ СИЛЁН ЧЕЛОВЕК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Выгнутая влево стрелка 7"/>
          <p:cNvSpPr/>
          <p:nvPr/>
        </p:nvSpPr>
        <p:spPr>
          <a:xfrm>
            <a:off x="446040" y="1700280"/>
            <a:ext cx="1079640" cy="273672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582840 h 2736720"/>
              <a:gd name="textAreaBottom" fmla="*/ 20188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03" stAng="-5400000" swAng="-5400000"/>
                <a:lnTo>
                  <a:pt x="0" y="11333"/>
                </a:lnTo>
                <a:arcTo wR="21600" hR="9203" stAng="10800000" swAng="-3526944"/>
                <a:lnTo>
                  <a:pt x="16200" y="21308"/>
                </a:lnTo>
                <a:lnTo>
                  <a:pt x="21600" y="19470"/>
                </a:lnTo>
                <a:lnTo>
                  <a:pt x="16200" y="17048"/>
                </a:lnTo>
                <a:lnTo>
                  <a:pt x="16200" y="18113"/>
                </a:lnTo>
                <a:arcTo wR="21600" hR="9203" stAng="7273056" swAng="3356437"/>
                <a:lnTo>
                  <a:pt x="145" y="10268"/>
                </a:lnTo>
                <a:arcTo wR="21600" hR="9203" stAng="-10629493" swAng="5229493"/>
                <a:close/>
              </a:path>
              <a:path fill="darkenLess" w="21600" h="21600">
                <a:moveTo>
                  <a:pt x="21600" y="0"/>
                </a:moveTo>
                <a:arcTo wR="21600" hR="9203" stAng="-5400000" swAng="-5400000"/>
                <a:lnTo>
                  <a:pt x="0" y="9203"/>
                </a:lnTo>
                <a:arcTo wR="21600" hR="9203" stAng="10800000" swAng="-170507"/>
                <a:lnTo>
                  <a:pt x="145" y="10268"/>
                </a:lnTo>
                <a:arcTo wR="21600" hR="9203" stAng="-10629493" swAng="522949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Выгнутая вправо стрелка 8"/>
          <p:cNvSpPr/>
          <p:nvPr/>
        </p:nvSpPr>
        <p:spPr>
          <a:xfrm>
            <a:off x="7451640" y="1773360"/>
            <a:ext cx="1022400" cy="2592360"/>
          </a:xfrm>
          <a:custGeom>
            <a:avLst/>
            <a:gdLst>
              <a:gd name="textAreaLeft" fmla="*/ 136800 w 1022400"/>
              <a:gd name="textAreaRight" fmla="*/ 885600 w 1022400"/>
              <a:gd name="textAreaTop" fmla="*/ 552240 h 2592360"/>
              <a:gd name="textAreaBottom" fmla="*/ 19123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3" stAng="-5400000" swAng="5400000"/>
                <a:lnTo>
                  <a:pt x="21600" y="11332"/>
                </a:lnTo>
                <a:arcTo wR="21600" hR="9203" stAng="0" swAng="3527027"/>
                <a:lnTo>
                  <a:pt x="5400" y="21308"/>
                </a:lnTo>
                <a:lnTo>
                  <a:pt x="0" y="19471"/>
                </a:lnTo>
                <a:lnTo>
                  <a:pt x="5400" y="17049"/>
                </a:lnTo>
                <a:lnTo>
                  <a:pt x="5400" y="18114"/>
                </a:lnTo>
                <a:arcTo wR="21600" hR="9203" stAng="3527027" swAng="-3356601"/>
                <a:lnTo>
                  <a:pt x="21455" y="10268"/>
                </a:lnTo>
                <a:arcTo wR="21600" hR="9203" stAng="-170426" swAng="-5229574"/>
                <a:close/>
              </a:path>
              <a:path fill="darkenLess" w="21600" h="21600">
                <a:moveTo>
                  <a:pt x="0" y="0"/>
                </a:moveTo>
                <a:arcTo wR="21600" hR="9203" stAng="-5400000" swAng="5400000"/>
                <a:lnTo>
                  <a:pt x="21600" y="11332"/>
                </a:lnTo>
                <a:arcTo wR="21600" hR="9203" stAng="0" swAng="-170426"/>
                <a:lnTo>
                  <a:pt x="21455" y="10268"/>
                </a:lnTo>
                <a:arcTo wR="21600" hR="9203" stAng="-170426" swAng="-522957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635280" y="981000"/>
            <a:ext cx="1800360" cy="3651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2"/>
          <p:cNvSpPr/>
          <p:nvPr/>
        </p:nvSpPr>
        <p:spPr>
          <a:xfrm>
            <a:off x="993600" y="472608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ум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4297680" y="4726080"/>
            <a:ext cx="48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аходчивость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4:28:16Z</dcterms:created>
  <dc:creator>Валерий</dc:creator>
  <dc:description/>
  <dc:language>en-US</dc:language>
  <cp:lastModifiedBy>Валерий</cp:lastModifiedBy>
  <dcterms:modified xsi:type="dcterms:W3CDTF">2012-12-17T16:40:26Z</dcterms:modified>
  <cp:revision>12</cp:revision>
  <dc:subject/>
  <dc:title>Презентация к уроку литературного чтения 2 класс. ОС «Школа 2100» Р.Н. Бунеев, Е.В. Бунеева</dc:title>
</cp:coreProperties>
</file>